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EEB-5B5F-4DA6-9869-89ED51DC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037-68F8-44CF-BF78-4F904DF4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391-FCE9-4151-AD35-03E3BD17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3A5A-45CE-4756-97AF-E5CC6CC8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7196-6467-4F33-995B-AA2AFEA8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0527-13FC-45BB-A910-A1E3B5B1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907C-EA44-4C6A-9D9A-B2A59816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E0CB-1EC7-43A0-9B4B-BE3236FD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70AB-301D-4547-9A35-B06954CB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3310-616E-4190-AE33-4B05BAAC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79E2-A0BC-46B4-8A4D-B026B7A6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B1AB-B3F1-4EEB-913F-7C4F416C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EF8E-5A02-4352-BB63-242CC3A5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EE1F4-8DD9-43BD-9BDE-3675C79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DA9-AA3B-425E-BB3F-40505688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EE4D-DBFE-4298-AA70-F2C3BF56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7579-0128-47FA-8169-5383135A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D39-496A-45F2-A1A4-8797C91B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682-14CD-4671-B3DB-0E315890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EB5-5E9A-49DF-8F86-6FC2FD1E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A50D-E5FE-4DEA-B285-6304D9EA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CF4-A4EA-45B3-957F-0AA9142D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5703-8157-402E-B4F3-374AF959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94F-0AE7-4855-A950-E5059AB2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BE08-48B5-4988-B06F-99A055A26F7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A790-5303-4B6D-AE4E-93591F91964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5640" y="12189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V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76720" y="3284640"/>
            <a:ext cx="5627520" cy="357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GNU vs Recursos 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tes en 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3716280"/>
            <a:ext cx="176040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$ vs Recursos GN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istas de corre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oport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ctualizaciones productos de segurida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anuales “tecnico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ocumentacion “avanzada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Knowledge 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lgunas URL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cert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securiteam.com (bugtraq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net-security.org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ww.ideahamster.com (politic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neworder.box.sk (gene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ume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RFC 2196 (IETF), gene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S 7799 (UK Standard), teoric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pen Source Security Testing Methodology Manual (OSSTMM) (ideahamster.com), auditori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Breaking into computer Networks from the Internet (sensepost.com), auditoria/hacking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Recursos 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s de perder el tiem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illos de hacking comercia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erramientas “click and go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Foros públicos de “hackers”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mo ser un hacker en 21 dia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ursos comerciales de productos concreto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436640"/>
            <a:ext cx="367200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ffffcc"/>
                </a:solidFill>
                <a:latin typeface="Arial Narrow"/>
              </a:rPr>
              <a:t>FiN</a:t>
            </a:r>
            <a:br>
              <a:rPr sz="9600"/>
            </a:br>
            <a:r>
              <a:rPr b="1" lang="es-ES" sz="1800" spc="-1" strike="noStrike">
                <a:solidFill>
                  <a:srgbClr val="ffffcc"/>
                </a:solidFill>
                <a:latin typeface="Arial Narrow"/>
              </a:rPr>
              <a:t>Version 1.0 Marzo/2002</a:t>
            </a:r>
            <a:endParaRPr b="1" lang="en-US" sz="1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1484280"/>
          <a:ext cx="4897440" cy="46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484280"/>
                    <a:ext cx="4897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4Z</dcterms:modified>
  <cp:revision>34</cp:revision>
  <dc:subject/>
  <dc:title>Políticas de Seguridad en entornos GNU</dc:title>
</cp:coreProperties>
</file>