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D723B-37E0-49BE-BA2D-BFF04891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BF409-D41A-450A-A6FA-73ABEDDB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DA245-8002-40D1-B9D4-0FA488FE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3C21E-6F7C-47AC-BD3D-B56868E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7E34A-EDB7-4DD5-A802-D3A2C15B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7037F-6E32-4FC6-A7B2-F76C6EC8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30225-D822-4DE2-978C-58CA795E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A9B83-937A-4813-915E-579C1BFB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A5AFE-1A39-45BA-A4E8-26DCED4B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B667E-FD90-4760-95BF-0F2EE8A7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B04B4-7468-423D-B5C3-DB0C721B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44247-25AF-4367-A6D2-71D121B2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24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Times New Roman"/>
              </a:rPr>
              <a:t>UNI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6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3A95-821A-42EC-A9D2-C0EEC19118A7}" type="slidenum">
              <a:rPr b="0" lang="es-E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Importancia de Linux para una Empresa de Software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UNIVERS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Barreras para su extensión comercial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iedo al cambio: F(fear) D(dubt) U(uncertainty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usencia de “galanteo” comerci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esconocimiento de la forma de obtener soporte y de su cal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Formas de soslayar las barreras 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Usando técnicas de antropología cultur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or imitación, empezando en los ambientes más abier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ximizando los puntos fuertes de Linux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stabilida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tegración IP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jo requerimiento de maquinari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jo coste de manten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Ejemplos de usos prácticos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áquinas dedicad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outers, Firewall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rvidores Web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ile Serv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rvidor de Base de Da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staciones de trabajo sin disco duro, poca RAM y baja potenc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gramación HTML, Java o X Window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Kioscos de Información al públic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erminales Punto de Vent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so comercial de Linux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Valoración filosófic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Valoración económic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Utilidad para una empresa de softw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Barreras para su extensión comerci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rmas de soslayar estas barrer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jemplos de usos comerciales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filosófica de Linux (1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En qué consiste el atractivo de Linux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Cuál es su utilidad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filosófica de Linux (2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uede pensarse en un futuro sin ordenadore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uede pensarse en un futuro sin ordenadores interconectato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filosófica de Linux (3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uede pensarse que el Sistema Operativo de los Ordenadores sea propiedad de alguien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filosófica de Linux (4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De quién es el fuego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De quién es la escritura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De quién es el Sistema Operativo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838368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económica de Linux (1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espacio económico es literalmente glob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modo de intercambio es el trueque en un modelo de “n” a “n”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coste del transporte tiende a cer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tiempo de transporte tiende a cer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coste de almacenamiento tiende a cer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l coste de fabricación tiende a cer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891684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aloración económica de Linux (2)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Quién paga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l homb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tilidad de Linux para una empresa de Software</a:t>
            </a:r>
            <a:endParaRPr b="1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s una forma de entender el softw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imp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actib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bier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n equip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3:37:39Z</dcterms:created>
  <dc:creator>Assumpta</dc:creator>
  <dc:description/>
  <dc:language>en-US</dc:language>
  <cp:lastModifiedBy>Universe, S.A.</cp:lastModifiedBy>
  <cp:lastPrinted>1998-11-05T15:04:52Z</cp:lastPrinted>
  <dcterms:modified xsi:type="dcterms:W3CDTF">1998-11-19T15:20:59Z</dcterms:modified>
  <cp:revision>4</cp:revision>
  <dc:subject/>
  <dc:title>Uso comercial de Linux</dc:title>
</cp:coreProperties>
</file>