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77242133-9C28-4D6B-96AE-42653C1C9EAB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744902D4-5626-4FD1-A468-0E8B361402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Backup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Backup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s each phase before mov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ges entire backup to local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more than 2GB pe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 to 11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 minutes cl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5 hours remote dump (200K/s) (pm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hours writing to tape (160K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80K/s remote dump P6-&gt;P6, old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800K/s FTP P6-&gt;P6, new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ging area fill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GB/night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icult to restore from 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rent speeds and size will not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ancient version of ‘ta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da In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for incremental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lists of backed 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uble buffer “staging”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ose structure on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backup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tape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nticipated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6 - 20 GB on full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DAT drive, claims 1 - 2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speed of ~800K/s -&gt; ~6 hour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iled backups will not be in staging area... ...But are resta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tape form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 Vs Exa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ed 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‘modern’ backup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Coda</cp:lastModifiedBy>
  <cp:revision>0</cp:revision>
  <dc:subject/>
  <dc:title>Current Backup System</dc:title>
</cp:coreProperties>
</file>