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8898120" cy="6555240"/>
          </a:xfrm>
          <a:custGeom>
            <a:avLst/>
            <a:gdLst/>
            <a:ahLst/>
            <a:rect l="0" t="0" r="r" b="b"/>
            <a:pathLst>
              <a:path w="24717" h="18209">
                <a:moveTo>
                  <a:pt x="24717" y="9424"/>
                </a:moveTo>
                <a:lnTo>
                  <a:pt x="15293" y="0"/>
                </a:lnTo>
                <a:lnTo>
                  <a:pt x="13591" y="0"/>
                </a:lnTo>
                <a:lnTo>
                  <a:pt x="23870" y="10271"/>
                </a:lnTo>
                <a:lnTo>
                  <a:pt x="23553" y="10593"/>
                </a:lnTo>
                <a:lnTo>
                  <a:pt x="12961" y="0"/>
                </a:lnTo>
                <a:lnTo>
                  <a:pt x="9569" y="0"/>
                </a:lnTo>
                <a:lnTo>
                  <a:pt x="21859" y="12286"/>
                </a:lnTo>
                <a:lnTo>
                  <a:pt x="19897" y="14245"/>
                </a:lnTo>
                <a:lnTo>
                  <a:pt x="5662" y="0"/>
                </a:lnTo>
                <a:lnTo>
                  <a:pt x="3752" y="0"/>
                </a:lnTo>
                <a:lnTo>
                  <a:pt x="18945" y="15193"/>
                </a:lnTo>
                <a:lnTo>
                  <a:pt x="18151" y="15991"/>
                </a:lnTo>
                <a:lnTo>
                  <a:pt x="2165" y="0"/>
                </a:lnTo>
                <a:lnTo>
                  <a:pt x="0" y="0"/>
                </a:lnTo>
                <a:lnTo>
                  <a:pt x="0" y="2275"/>
                </a:lnTo>
                <a:lnTo>
                  <a:pt x="15928" y="18209"/>
                </a:lnTo>
                <a:lnTo>
                  <a:pt x="24717" y="9424"/>
                </a:lnTo>
                <a:close/>
              </a:path>
            </a:pathLst>
          </a:custGeom>
          <a:gradFill rotWithShape="0">
            <a:gsLst>
              <a:gs pos="0">
                <a:srgbClr val="6786e1"/>
              </a:gs>
              <a:gs pos="100000">
                <a:srgbClr val="b3c2f0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92160" y="6486480"/>
            <a:ext cx="158904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am@cs.cmu.e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4165560" y="6486480"/>
            <a:ext cx="81288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/25/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8693280" y="6486480"/>
            <a:ext cx="35892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9141E80F-8CE7-46B8-A262-54D5996AD9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a Secu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forcing Prot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uthenticated connection is established Srv attaches the CPS to the ClientEntry it ho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_XX_Semantics compare ACL’s against CPS and give yes/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us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little bugs: keys not nulled out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back connection not sec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userid to Vice should be transla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the heck is a “pcf” fi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is adding users all but a disas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as for improving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g mo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g moose doesn’t work like in AFS. It clears the existing tok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son: re-integration, hoarding and disconnection make token handling more diffic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S adds “moose” access in addition to  existing ti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da set ACL’s to achieve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F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rpose find username, and pdb record in constant time from uid, log time from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phabetically sorted list of null terminated user/group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s of offsets of strings, pdb records etc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ng Users/ 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wd2pdb is a hack to get the ball ro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S now has a pts server to modify the .pdb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r “au” can modify the password file not the pdb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ed: a pdb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 server must remain super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us pdb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b is interpreted by lex to get the CPS 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: precompute the C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b’s can become very large, so can pcf file which is held in server vm: not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on modification of pdb, Srv must be notified to refetch the C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entication and secure conn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Control and Protection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x emulation on Cl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e Connections in RPC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routine can be passed and encryption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us types of connections can be establish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Kimono: not authenticated, not encry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Only: authenticated not encry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dersOnly: authenticated, headers encry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e: authenticated and encry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ham Schroeder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828800"/>
            <a:ext cx="77724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ump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&amp; server share a secret (session or handshake key) for encryption/decry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cessful decryption of packets with this secret established ident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this: secure authenticated connections can be m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: How to get shared secret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: Coda has Needham-Schroeder 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5800" y="95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C2 Exchange at bind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53880" y="3097080"/>
            <a:ext cx="8571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135920" y="3097080"/>
            <a:ext cx="9255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954080" y="1878120"/>
            <a:ext cx="28386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Id, E[Xr, HKC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2438280"/>
            <a:ext cx="5305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154480" y="1260360"/>
            <a:ext cx="272736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KC: handshake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r,Yr: random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A,K] A encrypted with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514520" y="3429000"/>
            <a:ext cx="5127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402000" y="2944800"/>
            <a:ext cx="25369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(Xr+1,Yr),HKC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39720" y="4572000"/>
            <a:ext cx="5153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514520" y="5791320"/>
            <a:ext cx="5127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106720" y="4011480"/>
            <a:ext cx="19350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Yr+1,HCK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402000" y="5307120"/>
            <a:ext cx="23065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(SK,n0), HK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840280" y="4765680"/>
            <a:ext cx="298116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: session key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encryption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0: random number for 1st p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ent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60020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ltimate goal: Venus and Vice share secr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g &amp; auth2 server share a secret if user knows his password =&gt; secure conn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words are stored encrypted on server (“dreuss “) to avoid “accident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2 returns ticket to clog, clog gives it to Venus (using pioctl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us re-establishes all connections with Sr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v shares the auth2.tk key with auth2: it can decrypt the ticket which Venus can s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a ticke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447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cket = (clear token, secret tok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 tokens contain: (session key, viceid, timestamps for validity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 token for client: unencrypted (must be sent securely e.g. by auth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ret token: encrypted with secret shared by auth2/Srv (the key in auth2.tk). Can be sent unencrypted over the 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 secret token as clientid, then Client and server share a secr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rb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21932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stage rock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 Ticket Granting Ticket (TGT), using ki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hange TGT for ticket for a service ticket with the Ticket Granting Server (T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a could easily use Kerb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time of first connection, Venus fetches a ticket from TGS for Srv authent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ypt with Kerberos 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 out how TGS and Srv can share a secret, probably /etc/srvt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ps, users, membership &amp; ownership relations: in “vice.pdb”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L granting rights to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pt: current protection subdomain (CPS): CPS of a user/group is set of all groups to which she belongs directly or indirectly (can be precomputed from .pd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oda</dc:creator>
  <dc:description/>
  <dc:language>en-US</dc:language>
  <cp:lastModifiedBy>Peter Braam</cp:lastModifiedBy>
  <cp:revision>0</cp:revision>
  <dc:subject/>
  <dc:title>Coda Security</dc:title>
</cp:coreProperties>
</file>